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A04-D5E0-4F1D-980A-B302770C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2C9-BBE7-47CB-98EE-21DEC6D9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3C3-6CE3-428A-93FC-FCA20FEC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604-27F1-44B3-A0FF-014A4DCD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FA6-1D67-473D-980A-9AD96DC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DC0-C530-449B-B731-A5A899C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4B0-285B-4404-BCEA-68DD6BB9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A01-0202-411F-83F4-DE7E046A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E02-A740-4EA7-8CBC-0488DE1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DBC-2D9A-4599-BD24-F9E2C8B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C02-4203-46A3-B346-CC82544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499-CD7F-464B-98FE-02401DE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89F-B59E-4BA1-9663-F67988B59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605772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3"/>
          <p:cNvSpPr/>
          <p:nvPr/>
        </p:nvSpPr>
        <p:spPr>
          <a:xfrm>
            <a:off x="2122560" y="177336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2916360" y="176688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22760" y="178596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4503600" y="178596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2147760" y="263052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515880" y="261144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1316160" y="261792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8244000" y="210960"/>
            <a:ext cx="720720" cy="72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6465960" y="138600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369720" y="5468760"/>
            <a:ext cx="720720" cy="72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3"/>
          <p:cNvSpPr/>
          <p:nvPr/>
        </p:nvSpPr>
        <p:spPr>
          <a:xfrm>
            <a:off x="4770360" y="593244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4"/>
          <p:cNvSpPr/>
          <p:nvPr/>
        </p:nvSpPr>
        <p:spPr>
          <a:xfrm>
            <a:off x="6783480" y="444672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5"/>
          <p:cNvSpPr/>
          <p:nvPr/>
        </p:nvSpPr>
        <p:spPr>
          <a:xfrm>
            <a:off x="1157400" y="597060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6"/>
          <p:cNvSpPr/>
          <p:nvPr/>
        </p:nvSpPr>
        <p:spPr>
          <a:xfrm>
            <a:off x="1862280" y="542448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7"/>
          <p:cNvSpPr/>
          <p:nvPr/>
        </p:nvSpPr>
        <p:spPr>
          <a:xfrm>
            <a:off x="8294760" y="174132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8"/>
          <p:cNvSpPr/>
          <p:nvPr/>
        </p:nvSpPr>
        <p:spPr>
          <a:xfrm>
            <a:off x="5805360" y="545616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9"/>
          <p:cNvSpPr/>
          <p:nvPr/>
        </p:nvSpPr>
        <p:spPr>
          <a:xfrm>
            <a:off x="7259760" y="205272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0"/>
          <p:cNvSpPr/>
          <p:nvPr/>
        </p:nvSpPr>
        <p:spPr>
          <a:xfrm>
            <a:off x="6453360" y="240840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1"/>
          <p:cNvSpPr/>
          <p:nvPr/>
        </p:nvSpPr>
        <p:spPr>
          <a:xfrm>
            <a:off x="7634160" y="315108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2"/>
          <p:cNvSpPr/>
          <p:nvPr/>
        </p:nvSpPr>
        <p:spPr>
          <a:xfrm>
            <a:off x="1341360" y="1785960"/>
            <a:ext cx="720720" cy="720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4-03-11T16:28:01Z</dcterms:modified>
  <cp:revision>53</cp:revision>
  <dc:subject/>
  <dc:title>Слайд 1</dc:title>
</cp:coreProperties>
</file>